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CAB-94B9-4946-B464-E6FCBCC2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D6E-F084-46F3-83BE-526BBC87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DA33-464C-484F-9578-CFD02F5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C18C7-FE9E-414A-9FE7-6138852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2229-293F-47BF-A591-1486461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DCF66-C463-426F-A1D2-BFCDD2EE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75984-D5C7-484A-8809-B727E7E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F5BDF-005B-4287-9286-185DDB5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4B4AD-4ABF-4557-A41D-063A2ED6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DC6AB-BC5C-45A9-A3D6-492525E1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E457A-5A48-4FBC-9BF3-72141EB7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C09F-881A-4EDD-A75C-5F5F4CC7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B6B-6B67-4E2B-B991-8369ECDE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7F311-25D1-42C4-9DA7-725F7D1C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B69DA-2B9E-4CDA-83E3-E7B4D96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5B77F-F08A-40C5-9263-FD1FC9C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356ED-09E2-4D59-95B4-7A4D17B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D3AA-A48B-4EB6-8740-733A20C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F6AA1-1A94-4B6C-A8E3-7EDF709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59B3D-65F7-41C7-AE2B-B00D43D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60EC5-8C5B-4F7D-8722-74E204C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FC81F-86E8-4D0F-8DBF-FBF338B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090DC-6A26-48DF-BA0F-F118F403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CC1-9103-400D-93E9-B7370FE6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8A06-F215-4EF8-A708-C6629B1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67278-B29C-4546-B032-1D55EFC0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3EE3-B67E-4ECF-A6B9-23D9B11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8671-E3A2-4CB9-8C36-529B2D83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21AED-0D2E-408A-8894-26CA255B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FA69-64D6-47CC-9C29-B1D6119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57C17-F00F-46EF-BF72-B04B5F8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9AFEF-0775-4937-875D-BFC67AC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518F1-F62E-4807-B3F1-AC32270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B9768-348B-4E35-BF6B-B3884DF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221-E840-4148-A58C-85E1C4F8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28EBD-1372-442E-9D0D-CA17E63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8422-0ACF-4177-95A2-E1F73AF1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71255-C2AC-4E1E-A814-CBBCB6CA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E1BA-4E77-419E-8C7D-59042EBD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187D2-5A57-47F8-A516-4A4A46C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0D29B-51FF-46C6-AFF4-0F4595EF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638B5-5C95-4FEA-B3EA-AC5E306F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A0F5A-2DFB-408E-A4DE-384A2660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EE8E3-C3D1-4522-A3AC-CA15E6A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CE67F-1AE0-482A-A7FC-1C27AD9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799-82E8-4EC5-8847-460E412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8897-16A4-4C0A-A82C-FF68AE2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38049-E7C4-4D97-B0D9-0B8115FE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FD575-F1E0-4689-818C-1A2B588B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151F8-A4D9-4971-BAE0-5C4FBB74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C148C-F6AD-41CE-B2E6-05784C13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EDDF-A107-430F-BEC3-ADE4B4EA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D7A-2375-4398-8A62-C6A3B00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2DF0-D1F2-4E01-88C2-E4EED8F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6A16-7BC6-4046-9930-6EC4BE93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EA94-2602-4D1C-AA3A-23759C61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BA9-39AA-4626-A82C-CA01BDD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BD9F-D7A7-4712-A232-189C0DC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64F8-598D-4069-AEC6-D4E78AD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4933-7CC1-4678-85A7-5C78E1DB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482-96B6-4FEA-9F83-07829F2E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B76E-629F-4462-B0BA-587C7BF5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C0B4-838A-4EFB-9F74-6DB37654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4432-9CCB-4DBD-B00D-1EECAFC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715A-B994-4415-9AA6-41B3EE13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B7B1-2FB7-41FE-B174-C59F17DF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6275-0811-4155-BB10-3CFD0EC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A7B-AAA3-453F-93E3-39BE7C8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21FA-B203-48B3-BEA6-5CBC50E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9ED0-1241-44D8-8781-E8A1380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F481E-BE03-4525-BE52-34F5B70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3972-7FFB-4C74-A2ED-61EBE7D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5B06-3F37-45CE-AB76-2352252E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7024-9CC6-4411-8577-57EE4D8F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AE58-2F4F-4224-BBB2-8040E2C2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4689-10AB-4D18-AFD4-4C61C358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424A-0D7C-4F74-A9D5-386F226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D290-5710-439D-B041-BC7FB6D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B68-1B58-4922-80AF-B9A5E412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B9AA-D84C-48CF-976A-A3116D1D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FAFC-BF6F-47F7-91FC-93F91AB3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B555-B41A-4158-AE7D-AE745FC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A8C8-15E4-4682-9C6D-F5236DD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824C-6213-41EB-A7D3-AC965B8D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3878-AED2-40F7-AE47-FFA30BB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0304-0352-4BE8-8521-FBAE27F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70A3-D0D7-4E90-86AD-6AEE2258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6C5A-A5BD-4502-828A-E79F60C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8E3BB-91E0-4C04-A118-93E6E607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249-F696-4928-BE96-460F63F5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AF13-C783-4A00-BD75-A44D373A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AE3C-A3C3-49AA-9947-84AB047A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9178-380C-4047-95C4-E31CCD2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FFD3-5300-43B1-8FE4-577D215D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5189-FC44-48DD-AC18-F065F65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7F4C-BE69-443C-A4A4-2D92DEE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D2BC-1D89-49DF-861D-6A0E1EC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5E36-CA75-4E04-9D26-2DEE272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F720-77F0-420C-A98A-C44FD98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2310-CBD3-43E1-BEBD-EF40AA50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57C-CABF-4088-85FC-3CA2E9E2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1DEB3-7E2C-42D6-9FA7-AD93AD70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24E0D-5587-4F6E-BAB8-0DA344A8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231F-085C-4AFA-82CB-70114FB8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79DE-9EBF-4AB6-9399-C0C14EA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D3D8-450A-4B1D-9492-ADDF710D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C1A1-E1BE-4340-98E5-659D6861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02FB9-982A-4924-B8C1-2436D62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F0AA2-35B5-4C8C-A306-8A50357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5BE2-CF12-4313-BE84-B976D9B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4103-6233-4BB3-B2F6-26286DC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CF4-A6C8-4FDD-BC1F-B471FD98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9668-9047-4090-B837-162D699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5152-A49C-4787-9DA6-B31232E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F6152-E9A1-4E28-9E5E-9F47AB94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3138-848E-4FFA-B300-52202D96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9936-0F5C-43BA-8109-D534216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3965-25DD-4CF3-A9F0-8A56507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C3A3E-771A-4B48-99F7-485814A6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E96D-B92A-489E-8BF2-992DE58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5592E-70AF-45C3-A690-1D97DA6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FF70-308B-47DB-84BB-E57C913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3EA-A519-47E5-A75B-C604EEE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2453-AEA1-4B8F-901C-1275411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60DB-D70A-4DA1-BEF5-25B1ADB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08C70-8F63-41DD-A482-6D8A894C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15CB-9068-4A25-AB72-F36CEA68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F9A7-9972-4DC9-8249-731E7B16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B1EE-DF3A-40E9-9B55-6CB2A1C7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DC35F-B045-4069-A83F-FA467C0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ECC4-FF16-4B12-9DC2-282B491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E9A7-6EF8-4624-BFE5-02E4358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B76D9-A321-4ECC-948D-5A48294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C11-A732-4D45-9875-44AEFA8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9F70-CBE0-43FC-AC41-304EE91E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B36A-C77B-4698-B4D2-FE08D79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BD88F-7229-4AA4-947D-4A747559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0A08F-F957-49E8-9C73-2B8DE9F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F208-F4BF-41E2-85EF-1C0E579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90AE-5A58-4323-BCAE-2CCD05D0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19A9-7055-4F8D-AECC-48488F39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7CB84-097D-472C-A93D-AA470B82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9EF5-B08D-4E9B-946C-5E73A258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ACE2-640C-42B7-973D-9E4BC46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8DCA-12F9-4AFC-8833-DD510EDD3B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DDE-11B2-496B-81B5-EA51DF554A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A05-5AB8-43D5-A4FF-01BA91B4408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A43-7BBE-4924-B295-2A1E96572DF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13A-5791-4DB1-A5E9-2EB6BC3C995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52F-36CA-47B1-B215-59D6874AB6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BBB-7BD8-449A-AD6D-57C6DC5AC0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81FB-0F4B-4ADF-841E-3EA9D3233A3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56EB-006D-4B0F-9663-10BFA848D99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5556-7C0E-4BE1-A7D5-98DCC5E7A3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8EBD-3150-42FC-85D2-9805E916B2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CB3-0826-4529-AFA1-9141F5EB57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3076"/>
          <p:cNvSpPr/>
          <p:nvPr/>
        </p:nvSpPr>
        <p:spPr>
          <a:xfrm>
            <a:off x="1357920" y="593640"/>
            <a:ext cx="20091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花 牛 歌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徐志摩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7413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7411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17412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8437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70000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8435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18436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淘气的花牛在草地里发生了很多有趣的事？聪明的你知道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9219" descr="u=688488195,351800593&amp;fm=0&amp;gp=0"/>
          <p:cNvPicPr/>
          <p:nvPr/>
        </p:nvPicPr>
        <p:blipFill>
          <a:blip r:embed="rId1"/>
          <a:stretch/>
        </p:blipFill>
        <p:spPr>
          <a:xfrm>
            <a:off x="363528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20481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0484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20485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压扁了一穗剪秋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4099" descr="2136bb0c-24544c"/>
          <p:cNvPicPr/>
          <p:nvPr/>
        </p:nvPicPr>
        <p:blipFill>
          <a:blip r:embed="rId1"/>
          <a:stretch/>
        </p:blipFill>
        <p:spPr>
          <a:xfrm>
            <a:off x="291636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07" descr="200572013142630430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0" descr="13355110R-0"/>
          <p:cNvPicPr/>
          <p:nvPr/>
        </p:nvPicPr>
        <p:blipFill>
          <a:blip r:embed="rId2"/>
          <a:stretch/>
        </p:blipFill>
        <p:spPr>
          <a:xfrm>
            <a:off x="4648320" y="2924280"/>
            <a:ext cx="4495680" cy="42163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08" descr="05300000471080125267195692523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09" descr="C81628166"/>
          <p:cNvPicPr/>
          <p:nvPr/>
        </p:nvPicPr>
        <p:blipFill>
          <a:blip r:embed="rId4"/>
          <a:stretch/>
        </p:blipFill>
        <p:spPr>
          <a:xfrm>
            <a:off x="0" y="342900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21511"/>
          <p:cNvSpPr/>
          <p:nvPr/>
        </p:nvSpPr>
        <p:spPr>
          <a:xfrm>
            <a:off x="3348000" y="2852640"/>
            <a:ext cx="324000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剪 秋 萝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眠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白云霸占了半个天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147" descr="t6aul2dq"/>
          <p:cNvPicPr/>
          <p:nvPr/>
        </p:nvPicPr>
        <p:blipFill>
          <a:blip r:embed="rId1"/>
          <a:stretch/>
        </p:blipFill>
        <p:spPr>
          <a:xfrm>
            <a:off x="1547640" y="1989000"/>
            <a:ext cx="7236000" cy="4869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尾巴甩得溜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7171" descr="042589c7-84545c"/>
          <p:cNvPicPr/>
          <p:nvPr/>
        </p:nvPicPr>
        <p:blipFill>
          <a:blip r:embed="rId1"/>
          <a:stretch/>
        </p:blipFill>
        <p:spPr>
          <a:xfrm>
            <a:off x="1008000" y="620640"/>
            <a:ext cx="8136000" cy="6237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做梦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太阳偷渡了西山的青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819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11280" y="259920"/>
            <a:ext cx="627552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819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8198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5365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1092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5363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15364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638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33964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638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16388"/>
          <p:cNvSpPr/>
          <p:nvPr/>
        </p:nvSpPr>
        <p:spPr>
          <a:xfrm>
            <a:off x="84816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8:33:18Z</dcterms:created>
  <dc:creator/>
  <dc:description/>
  <dc:language>en-US</dc:language>
  <cp:lastModifiedBy>万润仪器贸易公司</cp:lastModifiedBy>
  <dcterms:modified xsi:type="dcterms:W3CDTF">2020-08-24T03:32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